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262E-422A-4860-B701-5597EED2F9B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820F-2C1C-422F-80E7-AF6BDE22F96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좋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’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구성요소를 모아 놓는다고 자동적으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좋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시스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 되진 않는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80B5-6ADC-495B-8621-261578C6796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구성요소의 개선 방식은 전체 시스템의 목적에 비추어 절충될 필요도 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하나의 해결책은 다른 해결책에도 영향을 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하나의 해결책이 다른 문제를 야기할 수도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때로는 상충하는 것처럼 보였던 목표들이 획기적인 해결책에 의해 한꺼번에 해결되기도 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48E1-2A41-4CB8-8F63-00C51EDBB1F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4571-55ED-494F-96F7-720D5F6343F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배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계량은 기존의 가스등 인프라를 차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가스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가스계량기를 본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발전은 기존의 발전기를 철저하게 분석하 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재설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하나의 발전기가 수천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~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만개의 전구를 밝힐 수 있어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전구의 소비전력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0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으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고정시켰을 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발전기의 전압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00V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직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발전기의 용량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n*100(W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여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왜냐하면 배전을 병렬로 해야 하므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소비는 전구만으로 끝나지 않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전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소켓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스위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C68B-FA21-4AB0-9F4C-ABDD1A124AE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증기기관을 제외하면 시스템의 거의 모든 구성요소를 직접 발명 생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왜 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남에게 돈을 나눠주지 않겠다는 심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최적화된 시스템의 개발을 위해 모든 구성요소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존의 제품들이 시스템의 목적에 부합하지 않았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2EC7-DFF4-4E40-AAB5-A755455CDCC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194D-D0D2-4CD2-8B8E-A929E3F97DD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극장과 같은 실내 조명 등의 틈새시장에서 시작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중엔 가스회사와 정면으로 맞섬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단 발전소가 지어지고 나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 다음부터는 소비자만 늘면 노다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~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대량소비를 통해서만 수익성이 극대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 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너무 먼 소비자만 아니라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5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164D-7F40-41FE-8867-D029A342250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657360" indent="-246240">
              <a:spcBef>
                <a:spcPts val="451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엔지니어들은 역돌출부가 나타난 장소에 집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657360" indent="-246240">
              <a:spcBef>
                <a:spcPts val="451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엔지니어는 역돌출부를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것을 풀면 역돌출부를 제거할 수 있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 “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결정적 문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”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들의 집합으로 정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8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F0E2-1703-4946-B95A-5EF1A41AA9F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FD60-9B49-4DA9-9412-A3FF423A82B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6150-3622-46CA-A094-7FD6E47D8C7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B719-5DC1-4B4A-87C1-6730EFEB5DE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D63C-8A59-4D0D-937A-9F6BDD49045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Ganz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의 변압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0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9EFA-AF1A-4EAB-855D-90FB8B58EF3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3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EF1D-4AE6-44DF-9D7F-A826C83F06A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더 좋은 시스템으로 교체 안하고 비난했을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에디슨은 비합리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No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기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렇다고는 할 수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시스템은 기존에 투자된 것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자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장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능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에 의해 경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새로운 시스템은 기존 시스템의 이익 잠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새로운 시스템의 도입을 최대한 늦추어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존 소비자는 어떻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4862-CC72-4736-9624-E45DD3C4075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9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1414-E71B-414A-95C5-D597E220280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2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6D6C-4BFC-43A9-A54D-14CB4A9FC72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1AE9-B998-4204-AB5F-8D0F2FF0E8F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8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6779-CF65-49E0-805E-D14506A8D0E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AC1C-DECB-435E-A8AF-ECFC412DB1D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D22C-6814-4A27-85AD-1E6368B9D91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AB4B-B60A-4542-9F14-E53E15DD58C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44440" indent="-244440">
              <a:spcBef>
                <a:spcPts val="451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시스템의 유지를 둘러싼 이해관계 집단 함께 성장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657360" indent="-246240">
              <a:spcBef>
                <a:spcPts val="451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교육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4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제 공과대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전기공학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전기공학학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657360" indent="-246240">
              <a:spcBef>
                <a:spcPts val="451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산업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공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전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가전제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생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수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전기설비 산업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44440" indent="-244440">
              <a:spcBef>
                <a:spcPts val="451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전력 시스템은 더욱 공고해지고 안정되게 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불확실성 제거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44440" indent="-244440">
              <a:spcBef>
                <a:spcPts val="451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안정된 소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안정된 재투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계속된 성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 문제들 해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55CB-E803-451D-98B6-89ED0D2BE0D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640C-C75A-468F-A831-238C144C12F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ECA6-D2C2-4324-AB07-F84B11720AC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2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0F3F-8187-4A69-9F50-8115DA1C39D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고가의 전기조명이 아닌 저렴한 전기조명을 통해 떼돈을 벌겠다는 목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71AB-4063-4F35-953C-F905BE48DC6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737C-B764-4312-B6EE-03155614F68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BD41-827F-4394-BF03-D20CC8917BD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본적으로 백열등은 가스등이나 아크등보다 안전하다는 장점이 있지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것만으로는 선택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X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백열등이 성공하기 위해서는 백열등 시스템이 기존 시스템보다 성능과 경제성이 우월해야 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를 위해 해결해야 할 문제가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006B-67B4-4165-AA4A-0044DAD4D39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F876-D2E9-4A14-BAA4-AE9097A69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8D1D-00AA-4904-8400-66028FBD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8459-4992-46CD-AA50-8932815BE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90E5-A174-488E-94D3-5AE4F949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D63C-8446-423D-B2FC-90998044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D952-7F58-4BC2-B3DA-F4B73948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C664-720B-4A9C-A9F4-460D2E71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E654-62E3-47DE-8715-39D92841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AF88-1429-4F28-960F-D05A7810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6F8E-E0E0-4146-B28C-8D6E2C0C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974B-2D3B-4D3A-ADF1-A05D8591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D573-0D48-4B40-A1E0-71C4FB8B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c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D22E-88A9-4B6A-8CAD-E6D33C0C6FFE}" type="slidenum"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pann.nate.com/video/206869391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thomas_edison"/>
          <p:cNvPicPr/>
          <p:nvPr/>
        </p:nvPicPr>
        <p:blipFill>
          <a:blip r:embed="rId1"/>
          <a:stretch/>
        </p:blipFill>
        <p:spPr>
          <a:xfrm>
            <a:off x="0" y="-2332080"/>
            <a:ext cx="9144000" cy="12619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76360" y="4508640"/>
            <a:ext cx="338292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Trebuchet MS"/>
              </a:rPr>
              <a:t>에디슨과 </a:t>
            </a:r>
            <a:br>
              <a:rPr sz="4400"/>
            </a:br>
            <a:r>
              <a:rPr b="1" lang="ko-KR" sz="4400" spc="-1" strike="noStrike">
                <a:solidFill>
                  <a:srgbClr val="ffc000"/>
                </a:solidFill>
                <a:latin typeface="Trebuchet MS"/>
              </a:rPr>
              <a:t>전력시스템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필요한 것은 </a:t>
            </a:r>
            <a:br>
              <a:rPr sz="4000"/>
            </a:b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최적화된 전기조명 시스템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시스템의 목적에 맞는 가장 알맞은 구성이 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구성요소의 좋고 나쁨은 시스템의 목적에 상대적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전기조명 시스템 최적화의 과제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도선의 비용을 어떻게 줄일 것인가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전기소비효율을 어떻게 높일 것인가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필라멘트의 수명은 어떻게 높일 것인가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전구의 밝기는 어떻게 높일 것인가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발전기의 용량은 어떻게 결정할 것인가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전기소비량은 어떤 방법으로 계량할 것인가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전기요금은 어떻게 책정해야 알맞을까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여러 전구들을 어떻게 독립적으로 작동시킬 것인가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투자자와 소비자를 어떻게 끌어모을 것인가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시스템 작동을 위한 인력과 조직을 어떻게 마련할 것인가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이 과제들은 전체 시스템을 생각해야만 해결 가능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고저항 전구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(1A 100Ω 100V)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도선 비용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소비 효율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전구 밝기 문제를 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한꺼번에 해결해준 중대한 해법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는 수많은 구성요소 중 하나에 불과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에디슨의 전기조명 시스템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발전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직류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배전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병렬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소비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고저항 전구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계량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시스템 작동을 위한 조직들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00000" y="1557000"/>
            <a:ext cx="7786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-245880">
              <a:spcBef>
                <a:spcPts val="649"/>
              </a:spcBef>
              <a:buClr>
                <a:srgbClr val="ffc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디슨 전등 회사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재정 충당 및 발명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특허 관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257040" indent="-245880">
              <a:spcBef>
                <a:spcPts val="649"/>
              </a:spcBef>
              <a:buClr>
                <a:srgbClr val="ffc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뉴욕 에디슨 전기 조명 회사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중앙발전소 설비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257040" indent="-245880">
              <a:spcBef>
                <a:spcPts val="649"/>
              </a:spcBef>
              <a:buClr>
                <a:srgbClr val="ffc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디슨 기계 회사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발전기 생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257040" indent="-245880">
              <a:spcBef>
                <a:spcPts val="649"/>
              </a:spcBef>
              <a:buClr>
                <a:srgbClr val="ffc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디슨 전기 튜브 회사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송전 케이블 생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257040" indent="-245880">
              <a:spcBef>
                <a:spcPts val="649"/>
              </a:spcBef>
              <a:buClr>
                <a:srgbClr val="ffc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디슨 전구 회사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백열등 생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257040" indent="-245880">
              <a:spcBef>
                <a:spcPts val="649"/>
              </a:spcBef>
              <a:buClr>
                <a:srgbClr val="ffc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먼로 파크 연구소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개발 및 시스템의 문제 해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84" name="Picture 2" descr="Pearl Street station around 1883"/>
          <p:cNvPicPr/>
          <p:nvPr/>
        </p:nvPicPr>
        <p:blipFill>
          <a:blip r:embed="rId1"/>
          <a:stretch/>
        </p:blipFill>
        <p:spPr>
          <a:xfrm>
            <a:off x="1258920" y="1197000"/>
            <a:ext cx="3935520" cy="2660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69231"/>
          <p:cNvPicPr/>
          <p:nvPr/>
        </p:nvPicPr>
        <p:blipFill>
          <a:blip r:embed="rId2"/>
          <a:stretch/>
        </p:blipFill>
        <p:spPr>
          <a:xfrm>
            <a:off x="5435640" y="692280"/>
            <a:ext cx="3017880" cy="3095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221351-1f1"/>
          <p:cNvPicPr/>
          <p:nvPr/>
        </p:nvPicPr>
        <p:blipFill>
          <a:blip r:embed="rId3"/>
          <a:stretch/>
        </p:blipFill>
        <p:spPr>
          <a:xfrm>
            <a:off x="468360" y="4076640"/>
            <a:ext cx="4701960" cy="2470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943560" y="69228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첫 번째 발전소인 </a:t>
            </a:r>
            <a:r>
              <a:rPr b="0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Pearl Street </a:t>
            </a:r>
            <a:r>
              <a:rPr b="0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발전소 </a:t>
            </a:r>
            <a:r>
              <a:rPr b="0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(</a:t>
            </a:r>
            <a:r>
              <a:rPr b="0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뉴욕</a:t>
            </a:r>
            <a:r>
              <a:rPr b="0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1882)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580000" y="4149720"/>
            <a:ext cx="3024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에디슨의 전기조명 시스템</a:t>
            </a:r>
            <a:r>
              <a:rPr b="1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도시 번화가에 최적화</a:t>
            </a: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100 &amp; 200V</a:t>
            </a: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의 직류 발전</a:t>
            </a: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br>
              <a:rPr sz="1800"/>
            </a:b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수많은 백열등 병렬연결</a:t>
            </a: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대대적인 시장개척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300720" y="259920"/>
            <a:ext cx="2193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Edison as Wizard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91" name="Picture 2" descr="Edison wiz 1879"/>
          <p:cNvPicPr/>
          <p:nvPr/>
        </p:nvPicPr>
        <p:blipFill>
          <a:blip r:embed="rId1"/>
          <a:stretch/>
        </p:blipFill>
        <p:spPr>
          <a:xfrm>
            <a:off x="2916360" y="353880"/>
            <a:ext cx="324000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시스템의 성장과 역돌출부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시스템의 성장에 따라 뒤쳐지는 부분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[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역돌출부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]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발생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이에 대한 보수적 해결책은 기존 시스템 성장에 기여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파격적 해결책은 새로운 시스템 형성 </a:t>
            </a:r>
            <a:r>
              <a:rPr b="0" lang="en-US" sz="24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시스템간 경쟁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송전거리의 한계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디슨 직류 시스템의 역돌출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송전시 소비되는 에너지 ∝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I</a:t>
            </a:r>
            <a:r>
              <a:rPr b="0" lang="en-US" sz="2600" spc="-1" strike="noStrike" baseline="30000">
                <a:solidFill>
                  <a:srgbClr val="ffc000"/>
                </a:solidFill>
                <a:latin typeface="Georgia"/>
              </a:rPr>
              <a:t>2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R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전류 전쟁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디슨 직류 시스템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vs.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웨스팅하우스 교류 시스템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ff"/>
                </a:solidFill>
                <a:uFillTx/>
                <a:latin typeface="Georgia"/>
                <a:hlinkClick r:id="rId1"/>
              </a:rPr>
              <a:t>http://pann.nate.com/video/206869391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전구의 발명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,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에디슨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영국의 조지프 스완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년 전에 특허 출원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스완과 에디슨 이전에도 많은 사람이 전구 발명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52" name="Picture 2" descr="Early Edison Lamp"/>
          <p:cNvPicPr/>
          <p:nvPr/>
        </p:nvPicPr>
        <p:blipFill>
          <a:blip r:embed="rId1"/>
          <a:stretch/>
        </p:blipFill>
        <p:spPr>
          <a:xfrm>
            <a:off x="3851280" y="981000"/>
            <a:ext cx="10080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2160" y="549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직류시스템의 보수적 해결책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00" name="Picture 8" descr="System diagram Generators in series, lamps in parallel, and three-wire distribution (Patent no 274290, 20 March 1882)"/>
          <p:cNvPicPr/>
          <p:nvPr/>
        </p:nvPicPr>
        <p:blipFill>
          <a:blip r:embed="rId1"/>
          <a:stretch/>
        </p:blipFill>
        <p:spPr>
          <a:xfrm>
            <a:off x="1255680" y="1554120"/>
            <a:ext cx="6913440" cy="43531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"/>
          <p:cNvSpPr/>
          <p:nvPr/>
        </p:nvSpPr>
        <p:spPr>
          <a:xfrm>
            <a:off x="2892600" y="6021360"/>
            <a:ext cx="383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c000"/>
                </a:solidFill>
                <a:latin typeface="Georgia"/>
                <a:ea typeface="맑은 고딕"/>
              </a:rPr>
              <a:t>에디슨의 다선 배선 시스템</a:t>
            </a:r>
            <a:r>
              <a:rPr b="0" lang="en-US" sz="2200" spc="-1" strike="noStrike">
                <a:solidFill>
                  <a:srgbClr val="ffc000"/>
                </a:solidFill>
                <a:latin typeface="Georgia"/>
                <a:ea typeface="맑은 고딕"/>
              </a:rPr>
              <a:t>(1883</a:t>
            </a:r>
            <a:r>
              <a:rPr b="0" lang="ko-KR" sz="2200" spc="-1" strike="noStrike">
                <a:solidFill>
                  <a:srgbClr val="ffc000"/>
                </a:solidFill>
                <a:latin typeface="Georgia"/>
                <a:ea typeface="맑은 고딕"/>
              </a:rPr>
              <a:t>에 설치</a:t>
            </a:r>
            <a:r>
              <a:rPr b="0" lang="en-US" sz="2200" spc="-1" strike="noStrike">
                <a:solidFill>
                  <a:srgbClr val="ffc000"/>
                </a:solidFill>
                <a:latin typeface="Georgia"/>
                <a:ea typeface="맑은 고딕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216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웨스팅하우스의 파격적 해결책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4868640"/>
            <a:ext cx="8748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c000"/>
                </a:solidFill>
                <a:latin typeface="Georgia"/>
              </a:rPr>
              <a:t>교류 발전 후 변압기를 이용한 고압 송전을 통해 전력손실 최소화</a:t>
            </a:r>
            <a:endParaRPr b="0" lang="en-US" sz="22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04" name="Picture 7" descr="trasf_o_ganz"/>
          <p:cNvPicPr/>
          <p:nvPr/>
        </p:nvPicPr>
        <p:blipFill>
          <a:blip r:embed="rId1"/>
          <a:stretch/>
        </p:blipFill>
        <p:spPr>
          <a:xfrm>
            <a:off x="395280" y="1989000"/>
            <a:ext cx="2257560" cy="2694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www.web-books.com/eLibrary/Books/B1/B1396/MAIN/images/02007.png"/>
          <p:cNvPicPr/>
          <p:nvPr/>
        </p:nvPicPr>
        <p:blipFill>
          <a:blip r:embed="rId2"/>
          <a:stretch/>
        </p:blipFill>
        <p:spPr>
          <a:xfrm>
            <a:off x="2862360" y="1989000"/>
            <a:ext cx="62816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08" name="Picture 2" descr="http://www.yenka.com/activities/Power_Transmission_Lines/attachments/Power%20Transmission%20Lines%20-%20Model%201.gif"/>
          <p:cNvPicPr/>
          <p:nvPr/>
        </p:nvPicPr>
        <p:blipFill>
          <a:blip r:embed="rId1"/>
          <a:stretch/>
        </p:blipFill>
        <p:spPr>
          <a:xfrm>
            <a:off x="684360" y="260280"/>
            <a:ext cx="792000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2160" y="83664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에디슨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: “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교류전류는 살인 전류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!”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11" name="Picture 4" descr="AC v DC"/>
          <p:cNvPicPr/>
          <p:nvPr/>
        </p:nvPicPr>
        <p:blipFill>
          <a:blip r:embed="rId1"/>
          <a:stretch/>
        </p:blipFill>
        <p:spPr>
          <a:xfrm>
            <a:off x="468360" y="2349360"/>
            <a:ext cx="3878280" cy="302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kemchar"/>
          <p:cNvPicPr/>
          <p:nvPr/>
        </p:nvPicPr>
        <p:blipFill>
          <a:blip r:embed="rId2"/>
          <a:stretch/>
        </p:blipFill>
        <p:spPr>
          <a:xfrm>
            <a:off x="4500720" y="2421000"/>
            <a:ext cx="3925800" cy="26766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"/>
          <p:cNvSpPr/>
          <p:nvPr/>
        </p:nvSpPr>
        <p:spPr>
          <a:xfrm>
            <a:off x="4346640" y="515772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Kemmler Westinghoused!” (1890. 8. 6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1009800" y="5445000"/>
            <a:ext cx="231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에디슨 연구소의 실험 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(1888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교류 시스템의 성장과 승리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	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교류시스템의 문제 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실용적 모터의 부재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64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해결책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다상 교류 발전기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모터 개발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테슬라 등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직류 시스템과의 경쟁에서 기술적 우위 획득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17" name="Picture 4" descr="3-phase transmission system (Haselwander)"/>
          <p:cNvPicPr/>
          <p:nvPr/>
        </p:nvPicPr>
        <p:blipFill>
          <a:blip r:embed="rId1"/>
          <a:stretch/>
        </p:blipFill>
        <p:spPr>
          <a:xfrm>
            <a:off x="1147680" y="3068640"/>
            <a:ext cx="6809040" cy="25923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2168280" y="5805360"/>
            <a:ext cx="48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Georgia"/>
                <a:ea typeface="맑은 고딕"/>
              </a:rPr>
              <a:t>다상 교류 발전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맑은 고딕"/>
              </a:rPr>
              <a:t>– 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  <a:ea typeface="맑은 고딕"/>
              </a:rPr>
              <a:t>변압기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맑은 고딕"/>
              </a:rPr>
              <a:t>– 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  <a:ea typeface="맑은 고딕"/>
              </a:rPr>
              <a:t>고압송전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맑은 고딕"/>
              </a:rPr>
              <a:t>– 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  <a:ea typeface="맑은 고딕"/>
              </a:rPr>
              <a:t>변압기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맑은 고딕"/>
              </a:rPr>
              <a:t>– 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  <a:ea typeface="맑은 고딕"/>
              </a:rPr>
              <a:t>다상 교류 모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기존 직류 시스템의 모멘텀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22160" y="393372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자본집약적 시스템의 성격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‘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해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’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 불가능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소비자들이 이미 구입한 직류 상품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어떻게 최대한 평화적으로 해결할 수 있을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커플링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(coupling)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&amp;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합병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(merging)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22160" y="393372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교류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-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직류간 컨버터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시스템간의 화해 호환 기술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교류로 고압 송전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최종소비자는 직류로 전환 사용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합병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디슨 회사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톰슨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-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휴스턴 회사 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GE</a:t>
            </a:r>
            <a:br>
              <a:rPr sz="2600"/>
            </a:b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GE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와 웨스팅하우스 간의 특허교환 협약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lvl="2" marL="9144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25" name="Picture 2" descr="Rotary converter DC end"/>
          <p:cNvPicPr/>
          <p:nvPr/>
        </p:nvPicPr>
        <p:blipFill>
          <a:blip r:embed="rId1"/>
          <a:stretch/>
        </p:blipFill>
        <p:spPr>
          <a:xfrm>
            <a:off x="291960" y="52560"/>
            <a:ext cx="8605800" cy="68054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/>
          <p:cNvSpPr/>
          <p:nvPr/>
        </p:nvSpPr>
        <p:spPr>
          <a:xfrm>
            <a:off x="5294520" y="404640"/>
            <a:ext cx="26614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화해의 기술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– </a:t>
            </a:r>
            <a:r>
              <a:rPr b="1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로터리 컨버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교류 시스템의 확장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28" name="Picture 4" descr="naiagara power"/>
          <p:cNvPicPr/>
          <p:nvPr/>
        </p:nvPicPr>
        <p:blipFill>
          <a:blip r:embed="rId1"/>
          <a:stretch/>
        </p:blipFill>
        <p:spPr>
          <a:xfrm>
            <a:off x="539640" y="1557360"/>
            <a:ext cx="4897440" cy="3673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s13"/>
          <p:cNvPicPr/>
          <p:nvPr/>
        </p:nvPicPr>
        <p:blipFill>
          <a:blip r:embed="rId2"/>
          <a:stretch/>
        </p:blipFill>
        <p:spPr>
          <a:xfrm>
            <a:off x="5651640" y="1557360"/>
            <a:ext cx="2754000" cy="36734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1698480" y="544680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나이아가라 수력발전소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(1893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5518440" y="5446800"/>
            <a:ext cx="30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나이아가라에서 뻗어나온 송전선 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(1895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universal3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3165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580000" y="5660640"/>
            <a:ext cx="3564000" cy="647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Trebuchet MS"/>
              </a:rPr>
              <a:t>보편 동력 공급 시스템</a:t>
            </a:r>
            <a:endParaRPr b="1" lang="en-US" sz="25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왜 우리는 에디슨을 </a:t>
            </a:r>
            <a:br>
              <a:rPr sz="4000"/>
            </a:b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전구의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발명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”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로 기억할까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공고화된 전력 시스템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소비전압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100V)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교류주파수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60Hz)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등 통일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소켓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콘센트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플러그 등의 연관 기술 표준 정립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전기관련 인력과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전기관련 산업 급속도로 성장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발명가보다 경영자 또는 재정가의 중요성 높아짐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읽을거리와 질문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토머스 휴즈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, “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미국의 전기화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”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spcBef>
                <a:spcPts val="700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에디슨 시스템의 목적은 무엇인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spcBef>
                <a:spcPts val="700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에디슨의 발명 방식에 기술적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경제적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과학적 요소가 종합되어 있었다는 말은 무슨 뜻인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spcBef>
                <a:spcPts val="700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에디슨은 어떻게 고저항 전등을 전기조명 시스템의 필수적 요소로 파악하게 되었는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spcBef>
                <a:spcPts val="700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에디슨의 사례를 일반화하여 다른 기술의 성공 원인도 유추할 수 있을까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 (e.g.,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아이폰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싼 가격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,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오랜 수명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,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고효율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값싼 재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더 완벽한 진공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고저항 필라멘트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뿐만 아니라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…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115920"/>
            <a:ext cx="7522920" cy="14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뿐만 아니라 </a:t>
            </a:r>
            <a:br>
              <a:rPr sz="3000"/>
            </a:b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전기조명 시스템을 통째로 발명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59" name="Picture 2" descr="Early Edison Lamp"/>
          <p:cNvPicPr/>
          <p:nvPr/>
        </p:nvPicPr>
        <p:blipFill>
          <a:blip r:embed="rId1"/>
          <a:stretch/>
        </p:blipFill>
        <p:spPr>
          <a:xfrm>
            <a:off x="324000" y="260280"/>
            <a:ext cx="647640" cy="1359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System diagram Generators in series, lamps in parallel, and three-wire distribution (Patent no 274290, 20 March 1882)"/>
          <p:cNvPicPr/>
          <p:nvPr/>
        </p:nvPicPr>
        <p:blipFill>
          <a:blip r:embed="rId2"/>
          <a:stretch/>
        </p:blipFill>
        <p:spPr>
          <a:xfrm>
            <a:off x="5651640" y="1844640"/>
            <a:ext cx="2449440" cy="3897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Jumbo Generator"/>
          <p:cNvPicPr/>
          <p:nvPr/>
        </p:nvPicPr>
        <p:blipFill>
          <a:blip r:embed="rId3"/>
          <a:stretch/>
        </p:blipFill>
        <p:spPr>
          <a:xfrm>
            <a:off x="1187280" y="1916280"/>
            <a:ext cx="4206960" cy="3833640"/>
          </a:xfrm>
          <a:prstGeom prst="rect">
            <a:avLst/>
          </a:prstGeom>
          <a:ln w="0">
            <a:noFill/>
          </a:ln>
        </p:spPr>
      </p:pic>
      <p:sp>
        <p:nvSpPr>
          <p:cNvPr id="62" name="TextBox 8"/>
          <p:cNvSpPr/>
          <p:nvPr/>
        </p:nvSpPr>
        <p:spPr>
          <a:xfrm>
            <a:off x="1856160" y="595944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c000"/>
                </a:solidFill>
                <a:latin typeface="Georgia"/>
                <a:ea typeface="맑은 고딕"/>
              </a:rPr>
              <a:t>백열등 수천 개를 켤 수 있는 점보 발전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6193800" y="595944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c000"/>
                </a:solidFill>
                <a:latin typeface="Georgia"/>
                <a:ea typeface="맑은 고딕"/>
              </a:rPr>
              <a:t>병렬 배선 시스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에디슨은 시스템 구축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!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2160" y="3933720"/>
            <a:ext cx="77724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중앙 발전소로부터 공급되는 전기를 이용해 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모든 가정에 저렴한 조명을 밝히는 시스템을 </a:t>
            </a:r>
            <a:br>
              <a:rPr sz="2600"/>
            </a:b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개념적 발명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실제적 구축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상업적 성공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시스템적 사고는 왜 필요한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전구는 혼자서 빛을 내지 못함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!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전구는 전기 회로가 완성되어야만 빛을 낼 수 있음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좋은 전구를 발전기와 연결한다고 </a:t>
            </a:r>
            <a:br>
              <a:rPr sz="4000"/>
            </a:b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곧바로 돈을 벌 수 있는 것도 아님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성능 및 경제성 비교는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아크등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가스등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vs.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백열등이 아닌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아크등 시스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가스등 시스템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vs.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백열등 시스템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05:11:04Z</dcterms:created>
  <dc:creator>zolaist</dc:creator>
  <dc:description/>
  <dc:language>en-US</dc:language>
  <cp:lastModifiedBy>zolaist</cp:lastModifiedBy>
  <dcterms:modified xsi:type="dcterms:W3CDTF">2011-05-20T05:18:52Z</dcterms:modified>
  <cp:revision>45</cp:revision>
  <dc:subject/>
  <dc:title>에디슨과  전력시스템</dc:title>
</cp:coreProperties>
</file>